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894-B17B-49F1-9C79-5E7701F1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BB9-CA3B-441E-90DB-67214820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A13-F79F-4488-AFD3-091D7616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328-AA3C-401C-9B87-128B6614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B16-071E-4FB2-A244-8DCF4644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FFA-5699-4D23-9D7F-B75E9D10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BC8-5E45-485A-9E63-E0A2FC7D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007-ED68-4D9B-A613-4D7D8CFF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4A7-A311-4CEC-B132-89FC0FAD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A49E-5C5A-4113-8BC1-F8AE0660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733-6DFF-4BFB-8AA6-6A1859F3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9156-113F-4FD0-9B2F-968C17A4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0A58-30B5-43A6-AB13-820B98465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609480"/>
            <a:ext cx="7924680" cy="556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66680" y="1066680"/>
            <a:ext cx="70866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00"/>
                </a:solidFill>
                <a:latin typeface="Century Gothic"/>
              </a:rPr>
              <a:t>Sequence the Story</a:t>
            </a:r>
            <a:endParaRPr b="1" lang="en-US" sz="6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Century Gothic"/>
              </a:rPr>
              <a:t>put the events in order</a:t>
            </a:r>
            <a:endParaRPr b="1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85800" y="609480"/>
            <a:ext cx="7924680" cy="556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143000" y="1447920"/>
            <a:ext cx="70866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00"/>
                </a:solidFill>
                <a:latin typeface="Century Gothic"/>
              </a:rPr>
              <a:t>First</a:t>
            </a:r>
            <a:endParaRPr b="1" lang="en-US" sz="6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00"/>
                </a:solidFill>
                <a:latin typeface="Century Gothic"/>
              </a:rPr>
              <a:t>Julian meets Gloria</a:t>
            </a:r>
            <a:endParaRPr b="1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609480"/>
            <a:ext cx="7924680" cy="556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143000" y="914400"/>
            <a:ext cx="708660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00"/>
                </a:solidFill>
                <a:latin typeface="Century Gothic"/>
              </a:rPr>
              <a:t>Next</a:t>
            </a:r>
            <a:endParaRPr b="1" lang="en-US" sz="6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Century Gothic"/>
              </a:rPr>
              <a:t>Julian shows  Gloria a robin’s nest and his rock collection.  Gloria asks him if he knows how to make wishes and a kite.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85800" y="609480"/>
            <a:ext cx="7924680" cy="556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90720" y="1143000"/>
            <a:ext cx="7086600" cy="52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00"/>
                </a:solidFill>
                <a:latin typeface="Century Gothic"/>
              </a:rPr>
              <a:t>Then</a:t>
            </a:r>
            <a:endParaRPr b="1" lang="en-US" sz="6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Century Gothic"/>
              </a:rPr>
              <a:t>Gloria and Julian make a kite and write their wishes.</a:t>
            </a:r>
            <a:endParaRPr b="1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609480"/>
            <a:ext cx="7924680" cy="556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143000" y="838080"/>
            <a:ext cx="708660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00"/>
                </a:solidFill>
                <a:latin typeface="Century Gothic"/>
              </a:rPr>
              <a:t>Finally</a:t>
            </a:r>
            <a:endParaRPr b="1" lang="en-US" sz="6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Century Gothic"/>
              </a:rPr>
              <a:t>The children attach the wishes to the tail of the kite and fly the kite.</a:t>
            </a:r>
            <a:endParaRPr b="1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2:35:36Z</dcterms:created>
  <dc:creator>Resource User</dc:creator>
  <dc:description/>
  <dc:language>en-US</dc:language>
  <cp:lastModifiedBy>Nancy</cp:lastModifiedBy>
  <dcterms:modified xsi:type="dcterms:W3CDTF">2012-06-28T23:52:06Z</dcterms:modified>
  <cp:revision>4</cp:revision>
  <dc:subject/>
  <dc:title>PowerPoint Presentation</dc:title>
</cp:coreProperties>
</file>